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9.jpeg" ContentType="image/jpeg"/>
  <Override PartName="/ppt/media/image11.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png" ContentType="image/png"/>
  <Override PartName="/ppt/media/image6.jpeg" ContentType="image/jpeg"/>
  <Override PartName="/ppt/media/image7.jpeg" ContentType="image/jpeg"/>
  <Override PartName="/ppt/media/image12.jpeg" ContentType="image/jpeg"/>
  <Override PartName="/ppt/media/image8.jpeg" ContentType="image/jpeg"/>
  <Override PartName="/ppt/media/image13.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Lst>
  <p:sldSz cx="9144000" cy="6858000"/>
  <p:notesSz cx="7077075" cy="938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EE8D91-FB6F-4E1D-8A75-99AE8A8882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48EA57-A0F7-43FF-BCD1-885FD449A2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B225A7-258C-453F-8E6E-A6D2293F5C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26F093-B0F5-4458-B91B-35A89FB18E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D9B94B9-ADB3-409E-9D11-56130BF035C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4"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E6E6E8-31EB-40F4-A0BE-E5EA24BB6B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6"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3DF67F-7532-4ADA-AAA9-89A181E8D9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DE1042-37E0-4C86-B51B-556E262DCC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CE2739-A25F-46F2-BE6D-FF0587286A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529990-7014-476C-959D-BE852CDE08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8194B4-625C-422B-93E4-4E2FB62490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61F1A2-7C6F-4D17-BE2D-953ECC04E5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9"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E819B2-5274-4A44-BBE8-8A55E11A52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3"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906873-A9C9-4E52-809D-C40BDB4877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5"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6"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63DD4B-DE69-4EB8-876A-D35B3F2C1C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1"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F25C724-B1D7-4611-BF00-65086BE3108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83"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4"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5"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6"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7"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8"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AC34403-1112-4C87-BB95-C3CEA58DB8C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79C1935-D0B0-4CEF-8BF6-590B441699B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24A6248-C5FC-4C32-9957-DB001C25C26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EEE1343-8560-4143-8A2F-CD5319527B7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08422DC-A29A-40FA-8029-3EC35F4BB7D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4E94A3F-2EF6-431E-BE16-C00A2287C0B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8229C1-547F-4DFF-9546-96AFAA9F56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DF86603-E0EB-46E3-92B5-F1C2A3FA622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B2DE156-B7F0-47E6-AF3C-B2531415BA9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75EA5E9-647D-4AD2-9598-C038C01B1CF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5874106-6C92-42AE-A705-6288178CA55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4F3CE01-9AB4-436A-8F68-3B3240A9EDC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E42D0D6-199B-4441-8924-257B97F7AC0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FFD21C7-B920-4E54-B28D-30060FFF1C8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C091DAB-3708-4836-9313-4B5C60F64A7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2"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63BCE14-9D59-4DB0-9D25-EDD770C1EFF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4"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392E362-08FB-4F17-AE01-A80780AD7D2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455336-251C-47B0-A282-07444383F0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B0531D1-07AE-4AFC-A35D-636CF3FA4AE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6890214-8831-49F4-9FFC-9C58479B319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0C74DFC-810D-4E77-9ED3-F75CEE4C2AD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2B7088C-56C8-4838-9B50-AAF6B95F221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7"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05BE263-A561-4D5C-94F7-C6051956402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1"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FBCAF23-A476-4149-9936-2ACFBA211A1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3"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4"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58FB047-6EED-4693-9D5F-D4E0BDBAF57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9"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55C4808-41B9-4F8B-87D4-225787D59E9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71"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2"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3"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4"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5"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6"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68515EB-B619-4B73-8DE2-9267E6EE5A7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1788F3E-95BD-4BDF-9B81-D303FA6F08D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F70336-C90F-410E-AF9A-DA0B17B978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5"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3CD8911-360A-4EE3-B563-D30DA1EBF09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7"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A15CCB7-1658-42A3-BE03-6010DD0A820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9"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0"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3F264FE-53C3-4AF7-8C07-80C1C9E7436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1B2B19A-F821-4BFA-A85C-5418428EC84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66FC421-3191-489F-A4F0-DB0FA6FA2EF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5"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6"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ACF0F63-2CCE-4600-AD62-DBD47399A79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0"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C5939C2-4141-4937-B060-D70D6FFDB96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4"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30F13B7-4728-4D98-AF22-B21CB9956C5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6"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7"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DB64BE0-BACA-4BDE-95C4-7BF39389705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1"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2"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3B0AC4C-88F8-455C-9227-EC32B8478F7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3CE579-32E3-4759-B574-15A0D7ABEF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14"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5"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6"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7"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8"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9"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4ECA528-4973-4218-BAF9-BF2C8A55949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88F1B05-9D2E-4912-B855-4DACBE6D459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E1EE537-5017-4817-B739-09AC8E1995B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F9B9436-69DA-476A-B55B-DA92FAEA7C4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077344F-399D-4933-B687-A82E7C2ED3D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C351B16-1D0D-4716-8124-D9CC66C4FE4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C021CA3-D764-447F-BCC0-AB0BDBE345D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5F574A8-AC75-4735-A752-3266B9DB834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B9E5413-958A-4DB2-8C2C-6D333611B7A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995C7EB-F314-44CC-BE5F-57FE81DCEC3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3067A1-D81B-4E3F-82AF-8CF9AB00CB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9D6B17C-91EF-4754-A49A-A50054DC62A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8293167-522C-4EC4-97F9-DB0DB920CDA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5A2B61F-CC24-4D79-90B3-5F69C74E243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7EA9C6E-306E-402B-A4AA-3D24ADBE90A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3"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751E77C-72F6-49DD-B375-9210A0E7D6D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5"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849A7B2-5C56-4DE3-8E98-983A1766BB8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8"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7A2090A-8EF3-433C-A70C-D1179E8EBB8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BE0C227-E848-4F9B-9261-E41F31110EC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878575F-EF7A-4B26-815D-92B9B59E79A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3"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4"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31688A9-A83A-42AF-92D7-5F011AFE80D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D69811-78E9-49C1-9051-8630D69FEB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8"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E9E66C1-C40A-4500-8EA0-6B2692A2830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2"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5493A9B-DEBA-46C9-9DE1-7F82CE22814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4"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5"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CAD9669-2378-4265-831F-F6DEDCD7470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9"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0"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776104D-0F4F-433D-B7F9-6DFE167C4D7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2"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3"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4"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5"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6"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7"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07BDEEF-A8D1-44D7-ACC0-26B708482C2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C467412-EDED-47DB-A72C-08747CEACC3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1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972301D-B790-4921-89E2-D9636F21C4E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1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13F84E5-FB4E-447F-876F-2935FAFD3B9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59F4358-CC3B-4A35-8E19-15CACBFEF37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69223F0-3E06-4B6F-995C-90188BD99C0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0701F4-92C4-4D99-955B-D3C99C7FDE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B1803A9-7C92-45B1-B767-7B6F08303F6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15B823E-F51F-4E1E-BC11-0BB9CD4789B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DC8524D-2ED1-4962-97CB-337983A772E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9EE6C5E-66A5-428F-9C96-68AAF1F6EAD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95F009B-9799-47C2-A6AD-367302686EA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B875165-7CE5-4D9D-A039-CCCF32584FB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FBD5E62-082B-4559-A93F-BE54433CF437}"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 name="PlaceHolder 3"/>
          <p:cNvSpPr>
            <a:spLocks noGrp="1"/>
          </p:cNvSpPr>
          <p:nvPr>
            <p:ph type="dt" idx="1"/>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C1CAA2-2E3F-40ED-A7E5-13AFDD05376F}"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
        <p:nvSpPr>
          <p:cNvPr id="5" name="Straight Connector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Straight Connector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Isosceles Triangle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10"/>
          <p:cNvSpPr/>
          <p:nvPr/>
        </p:nvSpPr>
        <p:spPr>
          <a:xfrm>
            <a:off x="905040" y="364824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1"/>
          <p:cNvSpPr/>
          <p:nvPr/>
        </p:nvSpPr>
        <p:spPr>
          <a:xfrm>
            <a:off x="914400" y="5048280"/>
            <a:ext cx="7315200" cy="685800"/>
          </a:xfrm>
          <a:prstGeom prst="rect">
            <a:avLst/>
          </a:prstGeom>
          <a:noFill/>
          <a:ln cap="rnd" w="6480">
            <a:solidFill>
              <a:srgbClr val="9fb8c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2"/>
          <p:cNvSpPr/>
          <p:nvPr/>
        </p:nvSpPr>
        <p:spPr>
          <a:xfrm>
            <a:off x="905040" y="364824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14"/>
          <p:cNvSpPr/>
          <p:nvPr/>
        </p:nvSpPr>
        <p:spPr>
          <a:xfrm>
            <a:off x="914400" y="5048280"/>
            <a:ext cx="228600" cy="685800"/>
          </a:xfrm>
          <a:prstGeom prst="rect">
            <a:avLst/>
          </a:prstGeom>
          <a:solidFill>
            <a:srgbClr val="9fb8c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49"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50" name="PlaceHolder 3"/>
          <p:cNvSpPr>
            <a:spLocks noGrp="1"/>
          </p:cNvSpPr>
          <p:nvPr>
            <p:ph type="dt" idx="4"/>
          </p:nvPr>
        </p:nvSpPr>
        <p:spPr>
          <a:xfrm>
            <a:off x="6400800" y="6354360"/>
            <a:ext cx="2286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rPr>
              <a:t>&lt;date/time&gt;</a:t>
            </a:r>
            <a:endParaRPr b="0" lang="en-US" sz="1400" spc="-1" strike="noStrike">
              <a:solidFill>
                <a:srgbClr val="000000"/>
              </a:solidFill>
              <a:latin typeface="Times New Roman"/>
            </a:endParaRPr>
          </a:p>
        </p:txBody>
      </p:sp>
      <p:sp>
        <p:nvSpPr>
          <p:cNvPr id="51" name="PlaceHolder 4"/>
          <p:cNvSpPr>
            <a:spLocks noGrp="1"/>
          </p:cNvSpPr>
          <p:nvPr>
            <p:ph type="ftr" idx="5"/>
          </p:nvPr>
        </p:nvSpPr>
        <p:spPr>
          <a:xfrm>
            <a:off x="2898360" y="6354360"/>
            <a:ext cx="34750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1215720" y="6354360"/>
            <a:ext cx="121932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0229BF-5322-402D-A540-E687C3ED8FDF}"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89" name="Rectangle 10"/>
          <p:cNvSpPr/>
          <p:nvPr/>
        </p:nvSpPr>
        <p:spPr>
          <a:xfrm>
            <a:off x="914400" y="281952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11"/>
          <p:cNvSpPr/>
          <p:nvPr/>
        </p:nvSpPr>
        <p:spPr>
          <a:xfrm>
            <a:off x="914400" y="281952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9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93" name="PlaceHolder 3"/>
          <p:cNvSpPr>
            <a:spLocks noGrp="1"/>
          </p:cNvSpPr>
          <p:nvPr>
            <p:ph type="dt" idx="7"/>
          </p:nvPr>
        </p:nvSpPr>
        <p:spPr>
          <a:xfrm>
            <a:off x="6400800" y="6354360"/>
            <a:ext cx="2286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de9ec"/>
                </a:solidFill>
                <a:latin typeface="Times New Roman"/>
              </a:rPr>
              <a:t>&lt;date/time&gt;</a:t>
            </a:r>
            <a:endParaRPr b="0" lang="en-US" sz="1400" spc="-1" strike="noStrike">
              <a:solidFill>
                <a:srgbClr val="000000"/>
              </a:solidFill>
              <a:latin typeface="Times New Roman"/>
            </a:endParaRPr>
          </a:p>
        </p:txBody>
      </p:sp>
      <p:sp>
        <p:nvSpPr>
          <p:cNvPr id="94" name="PlaceHolder 4"/>
          <p:cNvSpPr>
            <a:spLocks noGrp="1"/>
          </p:cNvSpPr>
          <p:nvPr>
            <p:ph type="ftr" idx="8"/>
          </p:nvPr>
        </p:nvSpPr>
        <p:spPr>
          <a:xfrm>
            <a:off x="2898360" y="6354360"/>
            <a:ext cx="34750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5"/>
          <p:cNvSpPr>
            <a:spLocks noGrp="1"/>
          </p:cNvSpPr>
          <p:nvPr>
            <p:ph type="sldNum" idx="9"/>
          </p:nvPr>
        </p:nvSpPr>
        <p:spPr>
          <a:xfrm>
            <a:off x="1069560" y="6354360"/>
            <a:ext cx="1521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9675F2-5E8C-452E-8A13-85A978E71FCE}" type="slidenum">
              <a:rPr b="0" lang="en-US" sz="1400" spc="-1" strike="noStrike">
                <a:solidFill>
                  <a:srgbClr val="dde9e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Straight Connector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Straight Connector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Isosceles Triangle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Isosceles Triangle 10"/>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37"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38" name="PlaceHolder 3"/>
          <p:cNvSpPr>
            <a:spLocks noGrp="1"/>
          </p:cNvSpPr>
          <p:nvPr>
            <p:ph type="dt" idx="10"/>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rPr>
              <a:t>&lt;date/time&gt;</a:t>
            </a:r>
            <a:endParaRPr b="0" lang="en-US" sz="1400" spc="-1" strike="noStrike">
              <a:solidFill>
                <a:srgbClr val="000000"/>
              </a:solidFill>
              <a:latin typeface="Times New Roman"/>
            </a:endParaRPr>
          </a:p>
        </p:txBody>
      </p:sp>
      <p:sp>
        <p:nvSpPr>
          <p:cNvPr id="139" name="PlaceHolder 4"/>
          <p:cNvSpPr>
            <a:spLocks noGrp="1"/>
          </p:cNvSpPr>
          <p:nvPr>
            <p:ph type="ftr" idx="11"/>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PlaceHolder 5"/>
          <p:cNvSpPr>
            <a:spLocks noGrp="1"/>
          </p:cNvSpPr>
          <p:nvPr>
            <p:ph type="sldNum" idx="12"/>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6984B5-3011-488B-8061-03E565F5D391}"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Isosceles Triangle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80"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81" name="PlaceHolder 3"/>
          <p:cNvSpPr>
            <a:spLocks noGrp="1"/>
          </p:cNvSpPr>
          <p:nvPr>
            <p:ph type="dt" idx="13"/>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rPr>
              <a:t>&lt;date/time&gt;</a:t>
            </a:r>
            <a:endParaRPr b="0" lang="en-US" sz="1400" spc="-1" strike="noStrike">
              <a:solidFill>
                <a:srgbClr val="000000"/>
              </a:solidFill>
              <a:latin typeface="Times New Roman"/>
            </a:endParaRPr>
          </a:p>
        </p:txBody>
      </p:sp>
      <p:sp>
        <p:nvSpPr>
          <p:cNvPr id="182" name="PlaceHolder 4"/>
          <p:cNvSpPr>
            <a:spLocks noGrp="1"/>
          </p:cNvSpPr>
          <p:nvPr>
            <p:ph type="ftr" idx="14"/>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5"/>
          <p:cNvSpPr>
            <a:spLocks noGrp="1"/>
          </p:cNvSpPr>
          <p:nvPr>
            <p:ph type="sldNum" idx="15"/>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405DCC-CD22-494F-AA38-7270459D5AD2}"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Straight Connector 11"/>
          <p:cNvSpPr/>
          <p:nvPr/>
        </p:nvSpPr>
        <p:spPr>
          <a:xfrm>
            <a:off x="6178680" y="306360"/>
            <a:ext cx="0" cy="603576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Isosceles Triangle 12"/>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224"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25" name="PlaceHolder 3"/>
          <p:cNvSpPr>
            <a:spLocks noGrp="1"/>
          </p:cNvSpPr>
          <p:nvPr>
            <p:ph type="dt" idx="16"/>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rPr>
              <a:t>&lt;date/time&gt;</a:t>
            </a:r>
            <a:endParaRPr b="0" lang="en-US" sz="1400" spc="-1" strike="noStrike">
              <a:solidFill>
                <a:srgbClr val="000000"/>
              </a:solidFill>
              <a:latin typeface="Times New Roman"/>
            </a:endParaRPr>
          </a:p>
        </p:txBody>
      </p:sp>
      <p:sp>
        <p:nvSpPr>
          <p:cNvPr id="226" name="PlaceHolder 4"/>
          <p:cNvSpPr>
            <a:spLocks noGrp="1"/>
          </p:cNvSpPr>
          <p:nvPr>
            <p:ph type="ftr" idx="17"/>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PlaceHolder 5"/>
          <p:cNvSpPr>
            <a:spLocks noGrp="1"/>
          </p:cNvSpPr>
          <p:nvPr>
            <p:ph type="sldNum" idx="18"/>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8EB6B1-C507-4286-BE67-724DC65A6C68}"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264"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Isosceles Triangle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Rectangle 12"/>
          <p:cNvSpPr/>
          <p:nvPr/>
        </p:nvSpPr>
        <p:spPr>
          <a:xfrm>
            <a:off x="457200" y="500040"/>
            <a:ext cx="182520" cy="68580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268"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269" name="PlaceHolder 3"/>
          <p:cNvSpPr>
            <a:spLocks noGrp="1"/>
          </p:cNvSpPr>
          <p:nvPr>
            <p:ph type="dt" idx="19"/>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de9ec"/>
                </a:solidFill>
                <a:latin typeface="Times New Roman"/>
              </a:rPr>
              <a:t>&lt;date/time&gt;</a:t>
            </a:r>
            <a:endParaRPr b="0" lang="en-US" sz="1400" spc="-1" strike="noStrike">
              <a:solidFill>
                <a:srgbClr val="000000"/>
              </a:solidFill>
              <a:latin typeface="Times New Roman"/>
            </a:endParaRPr>
          </a:p>
        </p:txBody>
      </p:sp>
      <p:sp>
        <p:nvSpPr>
          <p:cNvPr id="270" name="PlaceHolder 4"/>
          <p:cNvSpPr>
            <a:spLocks noGrp="1"/>
          </p:cNvSpPr>
          <p:nvPr>
            <p:ph type="ftr" idx="20"/>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PlaceHolder 5"/>
          <p:cNvSpPr>
            <a:spLocks noGrp="1"/>
          </p:cNvSpPr>
          <p:nvPr>
            <p:ph type="sldNum" idx="21"/>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387586-29A0-4182-936B-235B492CD24F}" type="slidenum">
              <a:rPr b="0" lang="en-US" sz="1400" spc="-1" strike="noStrike">
                <a:solidFill>
                  <a:srgbClr val="dde9e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Isosceles Triangle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Straight Connector 12"/>
          <p:cNvSpPr/>
          <p:nvPr/>
        </p:nvSpPr>
        <p:spPr>
          <a:xfrm>
            <a:off x="6556320" y="276120"/>
            <a:ext cx="0" cy="585180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31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313" name="PlaceHolder 3"/>
          <p:cNvSpPr>
            <a:spLocks noGrp="1"/>
          </p:cNvSpPr>
          <p:nvPr>
            <p:ph type="dt" idx="22"/>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rPr>
              <a:t>&lt;date/time&gt;</a:t>
            </a:r>
            <a:endParaRPr b="0" lang="en-US" sz="1400" spc="-1" strike="noStrike">
              <a:solidFill>
                <a:srgbClr val="000000"/>
              </a:solidFill>
              <a:latin typeface="Times New Roman"/>
            </a:endParaRPr>
          </a:p>
        </p:txBody>
      </p:sp>
      <p:sp>
        <p:nvSpPr>
          <p:cNvPr id="314" name="PlaceHolder 4"/>
          <p:cNvSpPr>
            <a:spLocks noGrp="1"/>
          </p:cNvSpPr>
          <p:nvPr>
            <p:ph type="ftr" idx="23"/>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PlaceHolder 5"/>
          <p:cNvSpPr>
            <a:spLocks noGrp="1"/>
          </p:cNvSpPr>
          <p:nvPr>
            <p:ph type="sldNum" idx="24"/>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8BDDB1-28D7-4970-BF30-76827DE9ACA7}"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image" Target="../media/image7.jpeg"/><Relationship Id="rId8" Type="http://schemas.openxmlformats.org/officeDocument/2006/relationships/image" Target="../media/image8.jpeg"/><Relationship Id="rId9" Type="http://schemas.openxmlformats.org/officeDocument/2006/relationships/image" Target="../media/image9.jpeg"/><Relationship Id="rId10" Type="http://schemas.openxmlformats.org/officeDocument/2006/relationships/image" Target="../media/image10.png"/><Relationship Id="rId11" Type="http://schemas.openxmlformats.org/officeDocument/2006/relationships/image" Target="../media/image11.jpeg"/><Relationship Id="rId1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2" name="Picture 2" descr="http://z.about.com/d/geography/1/0/9/H/usa3.jpg"/>
          <p:cNvPicPr/>
          <p:nvPr/>
        </p:nvPicPr>
        <p:blipFill>
          <a:blip r:embed="rId1"/>
          <a:stretch/>
        </p:blipFill>
        <p:spPr>
          <a:xfrm>
            <a:off x="0" y="326880"/>
            <a:ext cx="9144000" cy="6531120"/>
          </a:xfrm>
          <a:prstGeom prst="rect">
            <a:avLst/>
          </a:prstGeom>
          <a:ln w="0">
            <a:noFill/>
          </a:ln>
        </p:spPr>
      </p:pic>
      <p:pic>
        <p:nvPicPr>
          <p:cNvPr id="353" name="Picture 4" descr="http://wzus1.ask.com/r?t=a&amp;d=us&amp;s=a&amp;c=p&amp;ti=1&amp;ai=30751&amp;l=dir&amp;o=0&amp;sv=0a5c424d&amp;ip=61681ba7&amp;u=http%3A%2F%2Fwww.bdvideos.co.uk%2Fimages%2Fliberty_bell.jpg"/>
          <p:cNvPicPr/>
          <p:nvPr/>
        </p:nvPicPr>
        <p:blipFill>
          <a:blip r:embed="rId2"/>
          <a:stretch/>
        </p:blipFill>
        <p:spPr>
          <a:xfrm>
            <a:off x="7378560" y="2743200"/>
            <a:ext cx="393840" cy="336600"/>
          </a:xfrm>
          <a:prstGeom prst="rect">
            <a:avLst/>
          </a:prstGeom>
          <a:ln w="0">
            <a:noFill/>
          </a:ln>
        </p:spPr>
      </p:pic>
      <p:pic>
        <p:nvPicPr>
          <p:cNvPr id="354" name="Picture 6" descr="http://wzus1.ask.com/r?t=a&amp;d=us&amp;s=a&amp;c=p&amp;ti=1&amp;ai=30751&amp;l=dir&amp;o=0&amp;sv=0a5c4254&amp;ip=61681ba7&amp;u=http%3A%2F%2Fwww.pbclibrary.org%2Fimages%2Fmt-rushmore.jpg"/>
          <p:cNvPicPr/>
          <p:nvPr/>
        </p:nvPicPr>
        <p:blipFill>
          <a:blip r:embed="rId3"/>
          <a:stretch/>
        </p:blipFill>
        <p:spPr>
          <a:xfrm>
            <a:off x="3505320" y="2133720"/>
            <a:ext cx="814320" cy="533160"/>
          </a:xfrm>
          <a:prstGeom prst="rect">
            <a:avLst/>
          </a:prstGeom>
          <a:ln w="0">
            <a:noFill/>
          </a:ln>
        </p:spPr>
      </p:pic>
      <p:pic>
        <p:nvPicPr>
          <p:cNvPr id="355" name="Picture 8" descr="http://wzus1.ask.com/r?t=a&amp;d=us&amp;s=a&amp;c=p&amp;ti=1&amp;ai=30751&amp;l=dir&amp;o=0&amp;sv=0a5c4250&amp;ip=61681ba7&amp;u=http%3A%2F%2Fwww.abanet.org%2Fpubliced%2Famcon%2Fimages%2Fstatue.jpg"/>
          <p:cNvPicPr/>
          <p:nvPr/>
        </p:nvPicPr>
        <p:blipFill>
          <a:blip r:embed="rId4"/>
          <a:stretch/>
        </p:blipFill>
        <p:spPr>
          <a:xfrm>
            <a:off x="8458200" y="2819520"/>
            <a:ext cx="355680" cy="685800"/>
          </a:xfrm>
          <a:prstGeom prst="rect">
            <a:avLst/>
          </a:prstGeom>
          <a:ln w="0">
            <a:noFill/>
          </a:ln>
        </p:spPr>
      </p:pic>
      <p:pic>
        <p:nvPicPr>
          <p:cNvPr id="356" name="Picture 10" descr="http://wzus1.ask.com/r?t=a&amp;d=us&amp;s=a&amp;c=p&amp;ti=1&amp;ai=30751&amp;l=dir&amp;o=0&amp;sv=0a5c4251&amp;ip=61681ba7&amp;u=http%3A%2F%2Fwww.mustseewashingtondc.com%2FDC-Photos%2Fimages%2Fcapital-washington.jpg"/>
          <p:cNvPicPr/>
          <p:nvPr/>
        </p:nvPicPr>
        <p:blipFill>
          <a:blip r:embed="rId5"/>
          <a:stretch/>
        </p:blipFill>
        <p:spPr>
          <a:xfrm>
            <a:off x="6934320" y="3200400"/>
            <a:ext cx="507960" cy="380880"/>
          </a:xfrm>
          <a:prstGeom prst="rect">
            <a:avLst/>
          </a:prstGeom>
          <a:ln w="0">
            <a:noFill/>
          </a:ln>
        </p:spPr>
      </p:pic>
      <p:pic>
        <p:nvPicPr>
          <p:cNvPr id="357" name="Picture 12" descr="http://wzus1.ask.com/r?t=a&amp;d=us&amp;s=a&amp;c=p&amp;ti=1&amp;ai=30751&amp;l=dir&amp;o=0&amp;sv=0a5c4244&amp;ip=61681ba7&amp;u=http%3A%2F%2Fwww.gpschools.org%2Fci%2Fdepts%2Feng%2Fk5%2Fford%2F1926_Ford%2520Model%2520T%2520Roadster.jpg"/>
          <p:cNvPicPr/>
          <p:nvPr/>
        </p:nvPicPr>
        <p:blipFill>
          <a:blip r:embed="rId6"/>
          <a:stretch/>
        </p:blipFill>
        <p:spPr>
          <a:xfrm>
            <a:off x="6095880" y="2438280"/>
            <a:ext cx="457200" cy="298440"/>
          </a:xfrm>
          <a:prstGeom prst="rect">
            <a:avLst/>
          </a:prstGeom>
          <a:ln w="0">
            <a:noFill/>
          </a:ln>
        </p:spPr>
      </p:pic>
      <p:pic>
        <p:nvPicPr>
          <p:cNvPr id="358" name="Picture 14" descr="http://wzus1.ask.com/r?t=a&amp;d=us&amp;s=a&amp;c=p&amp;ti=1&amp;ai=30751&amp;l=dir&amp;o=0&amp;sv=0a5c4234&amp;ip=61681ba7&amp;u=http%3A%2F%2Fwww.spacetoday.org%2Fimages%2FChina%2FYangShenzhou5Launch.jpg"/>
          <p:cNvPicPr/>
          <p:nvPr/>
        </p:nvPicPr>
        <p:blipFill>
          <a:blip r:embed="rId7"/>
          <a:stretch/>
        </p:blipFill>
        <p:spPr>
          <a:xfrm>
            <a:off x="7238880" y="5410080"/>
            <a:ext cx="322560" cy="457200"/>
          </a:xfrm>
          <a:prstGeom prst="rect">
            <a:avLst/>
          </a:prstGeom>
          <a:ln w="0">
            <a:noFill/>
          </a:ln>
        </p:spPr>
      </p:pic>
      <p:sp>
        <p:nvSpPr>
          <p:cNvPr id="359" name="Freeform 20"/>
          <p:cNvSpPr/>
          <p:nvPr/>
        </p:nvSpPr>
        <p:spPr>
          <a:xfrm>
            <a:off x="2514600" y="5638680"/>
            <a:ext cx="573120" cy="586080"/>
          </a:xfrm>
          <a:custGeom>
            <a:avLst/>
            <a:gdLst/>
            <a:ahLst/>
            <a:rect l="l" t="t" r="r" b="b"/>
            <a:pathLst>
              <a:path w="453795" h="413846">
                <a:moveTo>
                  <a:pt x="144702" y="321972"/>
                </a:moveTo>
                <a:cubicBezTo>
                  <a:pt x="148995" y="343437"/>
                  <a:pt x="138575" y="375506"/>
                  <a:pt x="157581" y="386366"/>
                </a:cubicBezTo>
                <a:cubicBezTo>
                  <a:pt x="180254" y="399322"/>
                  <a:pt x="212182" y="386444"/>
                  <a:pt x="234855" y="373488"/>
                </a:cubicBezTo>
                <a:cubicBezTo>
                  <a:pt x="246642" y="366753"/>
                  <a:pt x="238134" y="344450"/>
                  <a:pt x="247733" y="334851"/>
                </a:cubicBezTo>
                <a:cubicBezTo>
                  <a:pt x="257332" y="325251"/>
                  <a:pt x="273058" y="324634"/>
                  <a:pt x="286370" y="321972"/>
                </a:cubicBezTo>
                <a:cubicBezTo>
                  <a:pt x="316136" y="316019"/>
                  <a:pt x="346471" y="313386"/>
                  <a:pt x="376522" y="309093"/>
                </a:cubicBezTo>
                <a:cubicBezTo>
                  <a:pt x="404622" y="224795"/>
                  <a:pt x="365594" y="307534"/>
                  <a:pt x="428038" y="257578"/>
                </a:cubicBezTo>
                <a:cubicBezTo>
                  <a:pt x="440125" y="247909"/>
                  <a:pt x="445209" y="231820"/>
                  <a:pt x="453795" y="218941"/>
                </a:cubicBezTo>
                <a:cubicBezTo>
                  <a:pt x="426004" y="135567"/>
                  <a:pt x="452666" y="146865"/>
                  <a:pt x="389401" y="128789"/>
                </a:cubicBezTo>
                <a:cubicBezTo>
                  <a:pt x="372382" y="123926"/>
                  <a:pt x="355058" y="120203"/>
                  <a:pt x="337886" y="115910"/>
                </a:cubicBezTo>
                <a:cubicBezTo>
                  <a:pt x="325007" y="107324"/>
                  <a:pt x="308919" y="102239"/>
                  <a:pt x="299249" y="90152"/>
                </a:cubicBezTo>
                <a:cubicBezTo>
                  <a:pt x="257769" y="38303"/>
                  <a:pt x="320930" y="61134"/>
                  <a:pt x="260612" y="12879"/>
                </a:cubicBezTo>
                <a:cubicBezTo>
                  <a:pt x="250012" y="4398"/>
                  <a:pt x="234855" y="4293"/>
                  <a:pt x="221976" y="0"/>
                </a:cubicBezTo>
                <a:cubicBezTo>
                  <a:pt x="218769" y="641"/>
                  <a:pt x="132146" y="15197"/>
                  <a:pt x="118945" y="25758"/>
                </a:cubicBezTo>
                <a:cubicBezTo>
                  <a:pt x="106858" y="35428"/>
                  <a:pt x="100109" y="50551"/>
                  <a:pt x="93187" y="64395"/>
                </a:cubicBezTo>
                <a:cubicBezTo>
                  <a:pt x="87116" y="76537"/>
                  <a:pt x="89907" y="93432"/>
                  <a:pt x="80308" y="103031"/>
                </a:cubicBezTo>
                <a:cubicBezTo>
                  <a:pt x="70708" y="112630"/>
                  <a:pt x="54550" y="111617"/>
                  <a:pt x="41671" y="115910"/>
                </a:cubicBezTo>
                <a:cubicBezTo>
                  <a:pt x="33085" y="128789"/>
                  <a:pt x="18103" y="139224"/>
                  <a:pt x="15914" y="154547"/>
                </a:cubicBezTo>
                <a:cubicBezTo>
                  <a:pt x="14297" y="165864"/>
                  <a:pt x="36839" y="230202"/>
                  <a:pt x="41671" y="244699"/>
                </a:cubicBezTo>
                <a:cubicBezTo>
                  <a:pt x="37378" y="257578"/>
                  <a:pt x="34864" y="271193"/>
                  <a:pt x="28793" y="283335"/>
                </a:cubicBezTo>
                <a:cubicBezTo>
                  <a:pt x="21871" y="297180"/>
                  <a:pt x="0" y="306794"/>
                  <a:pt x="3035" y="321972"/>
                </a:cubicBezTo>
                <a:cubicBezTo>
                  <a:pt x="8562" y="349608"/>
                  <a:pt x="99076" y="359211"/>
                  <a:pt x="106066" y="360609"/>
                </a:cubicBezTo>
                <a:cubicBezTo>
                  <a:pt x="159303" y="413846"/>
                  <a:pt x="123696" y="401277"/>
                  <a:pt x="183339" y="386366"/>
                </a:cubicBezTo>
                <a:cubicBezTo>
                  <a:pt x="187504" y="385325"/>
                  <a:pt x="191925" y="386366"/>
                  <a:pt x="196218" y="386366"/>
                </a:cubicBezTo>
              </a:path>
            </a:pathLst>
          </a:custGeom>
          <a:noFill/>
          <a:ln w="93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360" name="Picture 18" descr="grand1.jpg"/>
          <p:cNvPicPr/>
          <p:nvPr/>
        </p:nvPicPr>
        <p:blipFill>
          <a:blip r:embed="rId8"/>
          <a:stretch/>
        </p:blipFill>
        <p:spPr>
          <a:xfrm>
            <a:off x="1676520" y="3886200"/>
            <a:ext cx="609480" cy="409680"/>
          </a:xfrm>
          <a:prstGeom prst="rect">
            <a:avLst/>
          </a:prstGeom>
          <a:ln w="0">
            <a:noFill/>
          </a:ln>
        </p:spPr>
      </p:pic>
      <p:pic>
        <p:nvPicPr>
          <p:cNvPr id="361" name="Picture 20" descr="lincolnvillage_02-08-09_F1_KSCPAB7.jpg"/>
          <p:cNvPicPr/>
          <p:nvPr/>
        </p:nvPicPr>
        <p:blipFill>
          <a:blip r:embed="rId9"/>
          <a:stretch/>
        </p:blipFill>
        <p:spPr>
          <a:xfrm>
            <a:off x="5486400" y="2819520"/>
            <a:ext cx="530280" cy="344520"/>
          </a:xfrm>
          <a:prstGeom prst="rect">
            <a:avLst/>
          </a:prstGeom>
          <a:ln w="0">
            <a:noFill/>
          </a:ln>
        </p:spPr>
      </p:pic>
      <p:pic>
        <p:nvPicPr>
          <p:cNvPr id="362" name="Picture 15" descr="http://blueroof.files.wordpress.com/2007/03/the-gateway-arch.png"/>
          <p:cNvPicPr/>
          <p:nvPr/>
        </p:nvPicPr>
        <p:blipFill>
          <a:blip r:embed="rId10"/>
          <a:stretch/>
        </p:blipFill>
        <p:spPr>
          <a:xfrm>
            <a:off x="4952880" y="3505320"/>
            <a:ext cx="480960" cy="552240"/>
          </a:xfrm>
          <a:prstGeom prst="rect">
            <a:avLst/>
          </a:prstGeom>
          <a:ln w="0">
            <a:noFill/>
          </a:ln>
        </p:spPr>
      </p:pic>
      <p:sp>
        <p:nvSpPr>
          <p:cNvPr id="363" name="Straight Connector 15"/>
          <p:cNvSpPr/>
          <p:nvPr/>
        </p:nvSpPr>
        <p:spPr>
          <a:xfrm>
            <a:off x="1219320" y="4648320"/>
            <a:ext cx="1371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Straight Connector 17"/>
          <p:cNvSpPr/>
          <p:nvPr/>
        </p:nvSpPr>
        <p:spPr>
          <a:xfrm>
            <a:off x="3429000" y="3124080"/>
            <a:ext cx="1371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Straight Connector 19"/>
          <p:cNvSpPr/>
          <p:nvPr/>
        </p:nvSpPr>
        <p:spPr>
          <a:xfrm>
            <a:off x="6858000" y="6324480"/>
            <a:ext cx="1371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Straight Connector 21"/>
          <p:cNvSpPr/>
          <p:nvPr/>
        </p:nvSpPr>
        <p:spPr>
          <a:xfrm>
            <a:off x="7772400" y="3809880"/>
            <a:ext cx="1371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Straight Connector 22"/>
          <p:cNvSpPr/>
          <p:nvPr/>
        </p:nvSpPr>
        <p:spPr>
          <a:xfrm>
            <a:off x="7772400" y="2514600"/>
            <a:ext cx="1371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Straight Connector 23"/>
          <p:cNvSpPr/>
          <p:nvPr/>
        </p:nvSpPr>
        <p:spPr>
          <a:xfrm>
            <a:off x="4572000" y="4495680"/>
            <a:ext cx="1371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Straight Connector 24"/>
          <p:cNvSpPr/>
          <p:nvPr/>
        </p:nvSpPr>
        <p:spPr>
          <a:xfrm>
            <a:off x="6324480" y="2286000"/>
            <a:ext cx="1371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Straight Connector 25"/>
          <p:cNvSpPr/>
          <p:nvPr/>
        </p:nvSpPr>
        <p:spPr>
          <a:xfrm>
            <a:off x="6477120" y="3886200"/>
            <a:ext cx="1371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Straight Connector 26"/>
          <p:cNvSpPr/>
          <p:nvPr/>
        </p:nvSpPr>
        <p:spPr>
          <a:xfrm>
            <a:off x="5181480" y="3429000"/>
            <a:ext cx="1371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TextBox 28"/>
          <p:cNvSpPr/>
          <p:nvPr/>
        </p:nvSpPr>
        <p:spPr>
          <a:xfrm>
            <a:off x="762120" y="0"/>
            <a:ext cx="75438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dobe Garamond Pro"/>
              </a:rPr>
              <a:t>“</a:t>
            </a:r>
            <a:r>
              <a:rPr b="0" lang="en-US" sz="2400" spc="-1" strike="noStrike">
                <a:solidFill>
                  <a:srgbClr val="000000"/>
                </a:solidFill>
                <a:latin typeface="Adobe Garamond Pro"/>
              </a:rPr>
              <a:t>Meet Me at the ____” </a:t>
            </a:r>
            <a:endParaRPr b="0" lang="en-US" sz="2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dobe Garamond Pro"/>
              </a:rPr>
              <a:t>National Landmark Appointment</a:t>
            </a:r>
            <a:endParaRPr b="0" lang="en-US" sz="2400" spc="-1" strike="noStrike">
              <a:solidFill>
                <a:srgbClr val="000000"/>
              </a:solidFill>
              <a:latin typeface="Arial"/>
            </a:endParaRPr>
          </a:p>
        </p:txBody>
      </p:sp>
      <p:pic>
        <p:nvPicPr>
          <p:cNvPr id="373" name="Picture 28" descr="http://www.kiyochiemi.com/images_texas/alamo.jpg"/>
          <p:cNvPicPr/>
          <p:nvPr/>
        </p:nvPicPr>
        <p:blipFill>
          <a:blip r:embed="rId11"/>
          <a:stretch/>
        </p:blipFill>
        <p:spPr>
          <a:xfrm>
            <a:off x="3429000" y="4572000"/>
            <a:ext cx="838080" cy="571680"/>
          </a:xfrm>
          <a:prstGeom prst="rect">
            <a:avLst/>
          </a:prstGeom>
          <a:ln w="0">
            <a:noFill/>
          </a:ln>
        </p:spPr>
      </p:pic>
      <p:sp>
        <p:nvSpPr>
          <p:cNvPr id="374" name="Straight Connector 27"/>
          <p:cNvSpPr/>
          <p:nvPr/>
        </p:nvSpPr>
        <p:spPr>
          <a:xfrm>
            <a:off x="3200400" y="5562720"/>
            <a:ext cx="1371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5" name="Picture 2" descr="http://www.traveltalkradio.com/images/rushmore_memorial_06.jpg"/>
          <p:cNvPicPr/>
          <p:nvPr/>
        </p:nvPicPr>
        <p:blipFill>
          <a:blip r:embed="rId1"/>
          <a:stretch/>
        </p:blipFill>
        <p:spPr>
          <a:xfrm>
            <a:off x="304920" y="2286000"/>
            <a:ext cx="3902040" cy="2438280"/>
          </a:xfrm>
          <a:prstGeom prst="rect">
            <a:avLst/>
          </a:prstGeom>
          <a:ln w="0">
            <a:noFill/>
          </a:ln>
        </p:spPr>
      </p:pic>
      <p:sp>
        <p:nvSpPr>
          <p:cNvPr id="376" name="PlaceHolder 1"/>
          <p:cNvSpPr>
            <a:spLocks noGrp="1"/>
          </p:cNvSpPr>
          <p:nvPr>
            <p:ph type="title"/>
          </p:nvPr>
        </p:nvSpPr>
        <p:spPr>
          <a:xfrm>
            <a:off x="457200" y="152280"/>
            <a:ext cx="8229600" cy="9907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464653"/>
                </a:solidFill>
                <a:latin typeface="Britannic Bold"/>
              </a:rPr>
              <a:t>Mt. Rushmore</a:t>
            </a:r>
            <a:endParaRPr b="0" lang="en-US" sz="5400" spc="-1" strike="noStrike">
              <a:solidFill>
                <a:srgbClr val="464653"/>
              </a:solidFill>
              <a:latin typeface="Bookman Old Style"/>
            </a:endParaRPr>
          </a:p>
        </p:txBody>
      </p:sp>
      <p:sp>
        <p:nvSpPr>
          <p:cNvPr id="377" name="Rectangle 5"/>
          <p:cNvSpPr/>
          <p:nvPr/>
        </p:nvSpPr>
        <p:spPr>
          <a:xfrm>
            <a:off x="533520" y="5257800"/>
            <a:ext cx="74674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til the wind and the rain alone shall wear them away, Mt. Rushmore, will endure "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Sculptor Gutzon Borglum </a:t>
            </a:r>
            <a:br>
              <a:rPr sz="1800"/>
            </a:br>
            <a:endParaRPr b="0" lang="en-US" sz="1800" spc="-1" strike="noStrike">
              <a:solidFill>
                <a:srgbClr val="000000"/>
              </a:solidFill>
              <a:latin typeface="Arial"/>
            </a:endParaRPr>
          </a:p>
        </p:txBody>
      </p:sp>
      <p:sp>
        <p:nvSpPr>
          <p:cNvPr id="378" name="Rectangle 6"/>
          <p:cNvSpPr/>
          <p:nvPr/>
        </p:nvSpPr>
        <p:spPr>
          <a:xfrm>
            <a:off x="4267080" y="1752480"/>
            <a:ext cx="457200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George Washington:</a:t>
            </a:r>
            <a:r>
              <a:rPr b="0" lang="en-US" sz="1800" spc="-1" strike="noStrike">
                <a:solidFill>
                  <a:srgbClr val="000000"/>
                </a:solidFill>
                <a:latin typeface="Arial"/>
              </a:rPr>
              <a:t> struggle for independenc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Thomas Jefferson </a:t>
            </a:r>
            <a:r>
              <a:rPr b="0" lang="en-US" sz="1800" spc="-1" strike="noStrike">
                <a:solidFill>
                  <a:srgbClr val="000000"/>
                </a:solidFill>
                <a:latin typeface="Arial"/>
              </a:rPr>
              <a:t>: government by the peop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u="sng">
                <a:solidFill>
                  <a:srgbClr val="000000"/>
                </a:solidFill>
                <a:uFillTx/>
                <a:latin typeface="Arial"/>
              </a:rPr>
              <a:t>Abraham Lincoln </a:t>
            </a:r>
            <a:r>
              <a:rPr b="0" lang="en-US" sz="1800" spc="-1" strike="noStrike">
                <a:solidFill>
                  <a:srgbClr val="000000"/>
                </a:solidFill>
                <a:latin typeface="Arial"/>
              </a:rPr>
              <a:t>: equality and the permanent union of the stat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Theodore Roosevelt: </a:t>
            </a:r>
            <a:r>
              <a:rPr b="0" lang="en-US" sz="1800" spc="-1" strike="noStrike">
                <a:solidFill>
                  <a:srgbClr val="000000"/>
                </a:solidFill>
                <a:latin typeface="Arial"/>
              </a:rPr>
              <a:t>20th century role of the United States in world affai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FACTS</a:t>
            </a:r>
            <a:endParaRPr b="0" lang="en-US" sz="3200" spc="-1" strike="noStrike">
              <a:solidFill>
                <a:srgbClr val="464653"/>
              </a:solidFill>
              <a:latin typeface="Bookman Old Style"/>
            </a:endParaRPr>
          </a:p>
        </p:txBody>
      </p:sp>
      <p:sp>
        <p:nvSpPr>
          <p:cNvPr id="380"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How many years did it take to build (14 yrs) </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Where is it located: </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 </a:t>
            </a:r>
            <a:r>
              <a:rPr b="0" lang="en-US" sz="2600" spc="-1" strike="noStrike">
                <a:solidFill>
                  <a:srgbClr val="000000"/>
                </a:solidFill>
                <a:latin typeface="Gill Sans MT"/>
              </a:rPr>
              <a:t>Mountain Height </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 </a:t>
            </a:r>
            <a:r>
              <a:rPr b="0" lang="en-US" sz="2600" spc="-1" strike="noStrike">
                <a:solidFill>
                  <a:srgbClr val="000000"/>
                </a:solidFill>
                <a:latin typeface="Gill Sans MT"/>
              </a:rPr>
              <a:t>How much did it cost to build</a:t>
            </a:r>
            <a:endParaRPr b="0" lang="en-US" sz="2600" spc="-1" strike="noStrike">
              <a:solidFill>
                <a:srgbClr val="000000"/>
              </a:solidFill>
              <a:latin typeface="Gill Sans MT"/>
            </a:endParaRPr>
          </a:p>
        </p:txBody>
      </p:sp>
      <p:sp>
        <p:nvSpPr>
          <p:cNvPr id="381" name="Rectangle 3"/>
          <p:cNvSpPr/>
          <p:nvPr/>
        </p:nvSpPr>
        <p:spPr>
          <a:xfrm>
            <a:off x="2980800" y="5791320"/>
            <a:ext cx="2974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mtrushmore.ne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28600"/>
            <a:ext cx="82296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Grand Canyon</a:t>
            </a:r>
            <a:endParaRPr b="0" lang="en-US" sz="3200" spc="-1" strike="noStrike">
              <a:solidFill>
                <a:srgbClr val="464653"/>
              </a:solidFill>
              <a:latin typeface="Bookman Old Style"/>
            </a:endParaRPr>
          </a:p>
        </p:txBody>
      </p:sp>
      <p:pic>
        <p:nvPicPr>
          <p:cNvPr id="383" name="Picture 2" descr="http://www.photoseek.com/99SW-15-02-Grand-Canyon.jpg"/>
          <p:cNvPicPr/>
          <p:nvPr/>
        </p:nvPicPr>
        <p:blipFill>
          <a:blip r:embed="rId1"/>
          <a:stretch/>
        </p:blipFill>
        <p:spPr>
          <a:xfrm>
            <a:off x="228600" y="1828800"/>
            <a:ext cx="4861080" cy="3200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28600"/>
            <a:ext cx="82296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Facts</a:t>
            </a:r>
            <a:endParaRPr b="0" lang="en-US" sz="3200" spc="-1" strike="noStrike">
              <a:solidFill>
                <a:srgbClr val="464653"/>
              </a:solidFill>
              <a:latin typeface="Bookman Old Style"/>
            </a:endParaRPr>
          </a:p>
        </p:txBody>
      </p:sp>
      <p:sp>
        <p:nvSpPr>
          <p:cNvPr id="385" name="Rectangle 2"/>
          <p:cNvSpPr/>
          <p:nvPr/>
        </p:nvSpPr>
        <p:spPr>
          <a:xfrm>
            <a:off x="380880" y="1905120"/>
            <a:ext cx="838224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man Old Style"/>
              </a:rPr>
              <a:t>  </a:t>
            </a:r>
            <a:r>
              <a:rPr b="0" lang="en-US" sz="1800" spc="-1" strike="noStrike">
                <a:solidFill>
                  <a:srgbClr val="000000"/>
                </a:solidFill>
                <a:latin typeface="Bookman Old Style"/>
              </a:rPr>
              <a:t>Is a chasm 277 miles long and up to 18 miles wide </a:t>
            </a:r>
            <a:endParaRPr b="0"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man Old Style"/>
              </a:rPr>
              <a:t>  </a:t>
            </a:r>
            <a:r>
              <a:rPr b="0" lang="en-US" sz="1800" spc="-1" strike="noStrike">
                <a:solidFill>
                  <a:srgbClr val="000000"/>
                </a:solidFill>
                <a:latin typeface="Bookman Old Style"/>
              </a:rPr>
              <a:t>Below Yavapai point is 2,400 feet above sea level, about 4,500 feet below the South Rim and 5,400 feet below the North Rim for an average depth of about one mile </a:t>
            </a:r>
            <a:endParaRPr b="0"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man Old Style"/>
              </a:rPr>
              <a:t>  </a:t>
            </a:r>
            <a:r>
              <a:rPr b="0" lang="en-US" sz="1800" spc="-1" strike="noStrike">
                <a:solidFill>
                  <a:srgbClr val="000000"/>
                </a:solidFill>
                <a:latin typeface="Bookman Old Style"/>
              </a:rPr>
              <a:t>Took 3-6 million years to form; erosion continues to alter its contours </a:t>
            </a:r>
            <a:endParaRPr b="0"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man Old Style"/>
              </a:rPr>
              <a:t>  </a:t>
            </a:r>
            <a:r>
              <a:rPr b="0" lang="en-US" sz="1800" spc="-1" strike="noStrike">
                <a:solidFill>
                  <a:srgbClr val="000000"/>
                </a:solidFill>
                <a:latin typeface="Bookman Old Style"/>
              </a:rPr>
              <a:t>Includes approximately 70 species of mammals, 250 species of birds,   25 types of reptiles and five species of amphibians </a:t>
            </a:r>
            <a:endParaRPr b="0"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man Old Style"/>
              </a:rPr>
              <a:t>  </a:t>
            </a:r>
            <a:r>
              <a:rPr b="0" lang="en-US" sz="1800" spc="-1" strike="noStrike">
                <a:solidFill>
                  <a:srgbClr val="000000"/>
                </a:solidFill>
                <a:latin typeface="Bookman Old Style"/>
              </a:rPr>
              <a:t>Was formed by the Colorado River, which flows west through the canyon and averages about 300 feet width, 100 feet in depth and flows at an average speed of four miles per hou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28600"/>
            <a:ext cx="82296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Gateway Arch</a:t>
            </a:r>
            <a:endParaRPr b="0" lang="en-US" sz="3200" spc="-1" strike="noStrike">
              <a:solidFill>
                <a:srgbClr val="464653"/>
              </a:solidFill>
              <a:latin typeface="Bookman Old Style"/>
            </a:endParaRPr>
          </a:p>
        </p:txBody>
      </p:sp>
      <p:pic>
        <p:nvPicPr>
          <p:cNvPr id="387" name="Picture 2" descr="http://www.microsiervos.com/images/gateway-arch-saint-louis.jpg"/>
          <p:cNvPicPr/>
          <p:nvPr/>
        </p:nvPicPr>
        <p:blipFill>
          <a:blip r:embed="rId1"/>
          <a:stretch/>
        </p:blipFill>
        <p:spPr>
          <a:xfrm>
            <a:off x="228600" y="2362320"/>
            <a:ext cx="3809880" cy="2286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28600"/>
            <a:ext cx="82296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FACTS – Gateway Arch</a:t>
            </a:r>
            <a:endParaRPr b="0" lang="en-US" sz="3200" spc="-1" strike="noStrike">
              <a:solidFill>
                <a:srgbClr val="464653"/>
              </a:solidFill>
              <a:latin typeface="Bookman Old Style"/>
            </a:endParaRPr>
          </a:p>
        </p:txBody>
      </p:sp>
      <p:graphicFrame>
        <p:nvGraphicFramePr>
          <p:cNvPr id="389" name=""/>
          <p:cNvGraphicFramePr/>
          <p:nvPr/>
        </p:nvGraphicFramePr>
        <p:xfrm>
          <a:off x="228600" y="1676520"/>
          <a:ext cx="8534520" cy="4064040"/>
        </p:xfrm>
        <a:graphic>
          <a:graphicData uri="http://schemas.openxmlformats.org/drawingml/2006/table">
            <a:tbl>
              <a:tblPr/>
              <a:tblGrid>
                <a:gridCol w="4267080"/>
                <a:gridCol w="4267440"/>
              </a:tblGrid>
              <a:tr h="199800">
                <a:tc>
                  <a:txBody>
                    <a:bodyPr lIns="6480" rIns="648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rPr>
                        <a:t>Height</a:t>
                      </a:r>
                      <a:endParaRPr b="0" lang="en-US" sz="12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480" rIns="648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rPr>
                        <a:t>630 feet</a:t>
                      </a:r>
                      <a:endParaRPr b="0" lang="en-US" sz="12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00160">
                <a:tc>
                  <a:txBody>
                    <a:bodyPr lIns="6480" rIns="648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rPr>
                        <a:t>Width at the base</a:t>
                      </a:r>
                      <a:endParaRPr b="0" lang="en-US" sz="12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480" rIns="648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rPr>
                        <a:t>630 feet</a:t>
                      </a:r>
                      <a:endParaRPr b="0" lang="en-US" sz="12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98360">
                <a:tc>
                  <a:txBody>
                    <a:bodyPr lIns="6480" rIns="648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rPr>
                        <a:t>Weight</a:t>
                      </a:r>
                      <a:endParaRPr b="0" lang="en-US" sz="12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480" rIns="648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rPr>
                        <a:t>43,000 tons </a:t>
                      </a:r>
                      <a:endParaRPr b="0" lang="en-US" sz="12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00160">
                <a:tc>
                  <a:txBody>
                    <a:bodyPr lIns="6480" rIns="648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rPr>
                        <a:t>Exterior composition</a:t>
                      </a:r>
                      <a:endParaRPr b="0" lang="en-US" sz="12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480" rIns="648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rPr>
                        <a:t>Stainless steel</a:t>
                      </a:r>
                      <a:endParaRPr b="0" lang="en-US" sz="12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87360">
                <a:tc>
                  <a:txBody>
                    <a:bodyPr lIns="6480" rIns="648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rPr>
                        <a:t>When it was built </a:t>
                      </a:r>
                      <a:endParaRPr b="0" lang="en-US" sz="12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480" rIns="648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rPr>
                        <a:t>February 12, 1963 -October 28, 1965</a:t>
                      </a:r>
                      <a:endParaRPr b="0" lang="en-US" sz="12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98360">
                <a:tc>
                  <a:txBody>
                    <a:bodyPr lIns="6480" rIns="648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rPr>
                        <a:t>Depth of the foundation</a:t>
                      </a:r>
                      <a:endParaRPr b="0" lang="en-US" sz="12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480" rIns="648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rPr>
                        <a:t>60 feet</a:t>
                      </a:r>
                      <a:endParaRPr b="0" lang="en-US" sz="12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00160">
                <a:tc>
                  <a:txBody>
                    <a:bodyPr lIns="6480" rIns="648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rPr>
                        <a:t>Architect</a:t>
                      </a:r>
                      <a:endParaRPr b="0" lang="en-US" sz="12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480" rIns="648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rPr>
                        <a:t>Eero Saarinen</a:t>
                      </a:r>
                      <a:endParaRPr b="0" lang="en-US" sz="12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99800">
                <a:tc>
                  <a:txBody>
                    <a:bodyPr lIns="6480" rIns="648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rPr>
                        <a:t>Structural Engineer</a:t>
                      </a:r>
                      <a:endParaRPr b="0" lang="en-US" sz="12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480" rIns="648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rPr>
                        <a:t>Fred Severud</a:t>
                      </a:r>
                      <a:endParaRPr b="0" lang="en-US" sz="12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946080">
                <a:tc>
                  <a:txBody>
                    <a:bodyPr lIns="6480" rIns="648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rPr>
                        <a:t>Location</a:t>
                      </a:r>
                      <a:endParaRPr b="0" lang="en-US" sz="12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480" rIns="648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rPr>
                        <a:t>In the Jefferson National Expansion Memorial, 11 North Fourth Street, St. Louis, Missouri, on the banks of the Mississippi River</a:t>
                      </a:r>
                      <a:endParaRPr b="0" lang="en-US" sz="12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73120">
                <a:tc>
                  <a:txBody>
                    <a:bodyPr lIns="6480" rIns="648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rPr>
                        <a:t>Time it takes to travel in the tram to the observation deck at the top of the arch</a:t>
                      </a:r>
                      <a:endParaRPr b="0" lang="en-US" sz="12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480" rIns="648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rPr>
                        <a:t>About 4 minutes (it travels at a rate of 240 feet per minute)</a:t>
                      </a:r>
                      <a:endParaRPr b="0" lang="en-US" sz="12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760680">
                <a:tc>
                  <a:txBody>
                    <a:bodyPr lIns="6480" rIns="648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rPr>
                        <a:t>Number of steps in each leg of the arch (the stairs are used only for maintenance and emergencies)</a:t>
                      </a:r>
                      <a:endParaRPr b="0" lang="en-US" sz="12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480" rIns="648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rPr>
                        <a:t>1,076</a:t>
                      </a:r>
                      <a:endParaRPr b="0" lang="en-US" sz="1200" spc="-1" strike="noStrike">
                        <a:solidFill>
                          <a:srgbClr val="000000"/>
                        </a:solidFill>
                        <a:latin typeface="Arial"/>
                      </a:endParaRPr>
                    </a:p>
                  </a:txBody>
                  <a:tcPr anchor="ctr" marL="6480" marR="648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390" name="Rectangle 1"/>
          <p:cNvSpPr/>
          <p:nvPr/>
        </p:nvSpPr>
        <p:spPr>
          <a:xfrm>
            <a:off x="1944720" y="-236880"/>
            <a:ext cx="5254200" cy="474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Facts and Figures about the St. Louis Gateway Arch</a:t>
            </a:r>
            <a:r>
              <a:rPr b="0" lang="en-US" sz="1600" spc="-1" strike="noStrike">
                <a:solidFill>
                  <a:srgbClr val="ff0000"/>
                </a:solidFill>
                <a:latin typeface="Arial"/>
              </a:rPr>
              <a:t>:</a:t>
            </a:r>
            <a:br>
              <a:rPr sz="900"/>
            </a:b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28600"/>
            <a:ext cx="822960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Remember the Alamo!" </a:t>
            </a:r>
            <a:endParaRPr b="0" lang="en-US" sz="3200" spc="-1" strike="noStrike">
              <a:solidFill>
                <a:srgbClr val="464653"/>
              </a:solidFill>
              <a:latin typeface="Bookman Old Style"/>
            </a:endParaRPr>
          </a:p>
        </p:txBody>
      </p:sp>
      <p:pic>
        <p:nvPicPr>
          <p:cNvPr id="392" name="Picture 28" descr="http://www.kiyochiemi.com/images_texas/alamo.jpg"/>
          <p:cNvPicPr/>
          <p:nvPr/>
        </p:nvPicPr>
        <p:blipFill>
          <a:blip r:embed="rId1"/>
          <a:stretch/>
        </p:blipFill>
        <p:spPr>
          <a:xfrm>
            <a:off x="533520" y="2057400"/>
            <a:ext cx="3297240" cy="2247840"/>
          </a:xfrm>
          <a:prstGeom prst="rect">
            <a:avLst/>
          </a:prstGeom>
          <a:ln w="0">
            <a:noFill/>
          </a:ln>
        </p:spPr>
      </p:pic>
      <p:sp>
        <p:nvSpPr>
          <p:cNvPr id="393" name="Rectangle 4"/>
          <p:cNvSpPr/>
          <p:nvPr/>
        </p:nvSpPr>
        <p:spPr>
          <a:xfrm>
            <a:off x="5257800" y="1600200"/>
            <a:ext cx="320040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lamo was the scene of a pivotal battle in the fight for the independence of Texas from Mexico. In the early 1800s, Texas belonged to Mexico. During the Texas war for independence from Mexico, Spanish troops occupied the abandoned building, now used as a fortress, calling it Alam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28600"/>
            <a:ext cx="82296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15T01:12:29Z</dcterms:created>
  <dc:creator>hmhendri</dc:creator>
  <dc:description/>
  <dc:language>en-US</dc:language>
  <cp:lastModifiedBy>hmhendri</cp:lastModifiedBy>
  <dcterms:modified xsi:type="dcterms:W3CDTF">2010-08-11T16:45:38Z</dcterms:modified>
  <cp:revision>4</cp:revision>
  <dc:subject/>
  <dc:title>Slide 1</dc:title>
</cp:coreProperties>
</file>